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539A-C211-402A-B096-A47287356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E078-07F0-40D4-AA5F-EC0D2D8A1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1239-DCAE-4DE6-B3E2-CF20626D1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9DE3-67BC-4E6B-AAA3-4A65ACBBC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BE10C-FC03-4373-84AD-042D9367A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15B6A-43FA-4337-A9C1-6F4360820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3D1FA-1E7F-440D-9B81-3FEEC664C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4FF88-AB23-4EEB-A6D3-CA3B856E0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B3051-570E-47AC-9113-5A580D7DB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86E35-4B30-4CB1-9E83-69AD107D9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B0302-8ADF-47DA-AF4D-BA2C9734D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3EE7-BFC2-4D1F-932E-0D733BFC8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50CBE-3DBD-49EC-B6BE-F4EB2656B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40A93-6419-4BDE-A43B-D2C583505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B67BF-31AE-4D1D-8C89-712AACB80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DD200-27F5-4F70-BF87-5B513C45F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B521E-8694-4425-ACA6-9BF03D978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EAF4-AD02-4854-BEA3-F56FFCD62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1B3C-2FD5-4829-9238-1E2E871CB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3D79-F502-44C1-8550-3C77969F4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FCC1-2C41-43DA-BC6B-CEB74EACF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D8E1-E571-4D0D-A325-F34139E41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ABB7-74C7-4066-951E-EFE421342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BA60-5C9B-4A89-9676-AFA562580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547F6-A169-4B21-94F9-1609E6BEA61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E5F09-1D3A-422A-8AC2-E27FD69CF75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webelements.com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"/>
          <p:cNvPicPr/>
          <p:nvPr/>
        </p:nvPicPr>
        <p:blipFill>
          <a:blip r:embed="rId2"/>
          <a:stretch/>
        </p:blipFill>
        <p:spPr>
          <a:xfrm>
            <a:off x="6172200" y="228600"/>
            <a:ext cx="2646360" cy="498600"/>
          </a:xfrm>
          <a:prstGeom prst="rect">
            <a:avLst/>
          </a:prstGeom>
          <a:ln w="0">
            <a:noFill/>
          </a:ln>
        </p:spPr>
      </p:pic>
      <p:sp>
        <p:nvSpPr>
          <p:cNvPr id="82" name="TextBox 20"/>
          <p:cNvSpPr/>
          <p:nvPr/>
        </p:nvSpPr>
        <p:spPr>
          <a:xfrm rot="20817600">
            <a:off x="272880" y="1293480"/>
            <a:ext cx="7925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Snap ITC"/>
              </a:rPr>
              <a:t>Biochemistry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1143000" y="4038480"/>
            <a:ext cx="693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Snap ITC"/>
              </a:rPr>
              <a:t>Acids &amp; Base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7" descr="C:\Documents and Settings\Liz\Local Settings\Temporary Internet Files\Content.IE5\EEEZ3B4P\MCj03663640000[1].wmf"/>
          <p:cNvPicPr/>
          <p:nvPr/>
        </p:nvPicPr>
        <p:blipFill>
          <a:blip r:embed="rId3"/>
          <a:stretch/>
        </p:blipFill>
        <p:spPr>
          <a:xfrm>
            <a:off x="6858000" y="2362320"/>
            <a:ext cx="216540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 atom of aluminum has 13 protons in its nucleus. 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many electrons does the atom have? 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lain how you know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on the information button for a periodic tabl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">
            <a:hlinkClick r:id="rId2"/>
          </p:cNvPr>
          <p:cNvSpPr/>
          <p:nvPr/>
        </p:nvSpPr>
        <p:spPr>
          <a:xfrm>
            <a:off x="4114800" y="5105520"/>
            <a:ext cx="1295280" cy="1066680"/>
          </a:xfrm>
          <a:custGeom>
            <a:avLst/>
            <a:gdLst>
              <a:gd name="textAreaLeft" fmla="*/ 69120 w 1295280"/>
              <a:gd name="textAreaRight" fmla="*/ 1226160 w 12952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6228" h="21600">
                <a:moveTo>
                  <a:pt x="0" y="0"/>
                </a:moveTo>
                <a:lnTo>
                  <a:pt x="26228" y="0"/>
                </a:lnTo>
                <a:lnTo>
                  <a:pt x="26228" y="21600"/>
                </a:lnTo>
                <a:lnTo>
                  <a:pt x="0" y="21600"/>
                </a:lnTo>
                <a:close/>
              </a:path>
              <a:path fill="lightenLess" w="26228" h="21600">
                <a:moveTo>
                  <a:pt x="0" y="0"/>
                </a:moveTo>
                <a:lnTo>
                  <a:pt x="26228" y="0"/>
                </a:lnTo>
                <a:lnTo>
                  <a:pt x="24828" y="1400"/>
                </a:lnTo>
                <a:lnTo>
                  <a:pt x="1400" y="1400"/>
                </a:lnTo>
                <a:close/>
              </a:path>
              <a:path fill="darken" w="26228" h="21600">
                <a:moveTo>
                  <a:pt x="26228" y="0"/>
                </a:moveTo>
                <a:lnTo>
                  <a:pt x="26228" y="21600"/>
                </a:lnTo>
                <a:lnTo>
                  <a:pt x="24828" y="20200"/>
                </a:lnTo>
                <a:lnTo>
                  <a:pt x="24828" y="1400"/>
                </a:lnTo>
                <a:close/>
              </a:path>
              <a:path fill="darkenLess" w="26228" h="21600">
                <a:moveTo>
                  <a:pt x="26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8" y="20200"/>
                </a:lnTo>
                <a:close/>
              </a:path>
              <a:path fill="lighten" w="26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8" h="21600">
                <a:moveTo>
                  <a:pt x="13114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6228" h="21600">
                <a:moveTo>
                  <a:pt x="13114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6228" h="21600">
                <a:moveTo>
                  <a:pt x="10537" y="8224"/>
                </a:moveTo>
                <a:lnTo>
                  <a:pt x="14402" y="8224"/>
                </a:lnTo>
                <a:lnTo>
                  <a:pt x="14402" y="15221"/>
                </a:lnTo>
                <a:lnTo>
                  <a:pt x="15690" y="15221"/>
                </a:lnTo>
                <a:lnTo>
                  <a:pt x="15690" y="16144"/>
                </a:lnTo>
                <a:lnTo>
                  <a:pt x="10537" y="16144"/>
                </a:lnTo>
                <a:lnTo>
                  <a:pt x="10537" y="15221"/>
                </a:lnTo>
                <a:lnTo>
                  <a:pt x="11826" y="15221"/>
                </a:lnTo>
                <a:lnTo>
                  <a:pt x="11826" y="9129"/>
                </a:lnTo>
                <a:lnTo>
                  <a:pt x="10537" y="912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6T13:01:56Z</dcterms:created>
  <dc:creator>PritchaJ</dc:creator>
  <dc:description/>
  <dc:language>en-US</dc:language>
  <cp:lastModifiedBy>PritchaJ</cp:lastModifiedBy>
  <dcterms:modified xsi:type="dcterms:W3CDTF">2011-05-26T13:04:34Z</dcterms:modified>
  <cp:revision>1</cp:revision>
  <dc:subject/>
  <dc:title>Slide 1</dc:title>
</cp:coreProperties>
</file>